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2DC1-E849-4593-8899-60C003805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E58B-3CAC-4235-99F9-8EDF0135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ADFA42-6336-4B4A-AACC-38ABE20C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4D07A0-D548-42C5-A5F2-A6B0FE64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9D7EE5-C768-4356-B9C8-E725C950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EBA2E5-830D-4436-B170-AF6D0253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19C902-55DD-4DF1-B5E5-EB274630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AF231B-7A7E-416A-9115-4E805E95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054069-8280-484E-8D4E-1125F301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E0A6EB-869A-44A2-9352-A0D899DC2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4E013A-C337-4D03-AEC0-86C390262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C1BC26-52BD-454B-9E5D-1D8F2D591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C50E-56C7-482B-B29D-ED4082E9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804FAE-C52D-4CF1-B5E4-C5067058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3ECC48-83E7-4785-9647-5B6CC5AD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0CB3D0-7091-4A2F-B7A9-518DA3FF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53035D-05FE-4D0B-9445-712A5EDE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E8EE8A-B0A5-4F68-AA3A-426FF1E0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617919-8D7C-4D4A-9C92-AC7742BA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9B22C8-74EB-4AC2-A9D3-370C7C0B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D43511-A697-4EF3-8006-604B5B2D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A7B155-BD70-4439-B2E3-3670D236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1A363D-CEF4-41D6-B1F8-10B532109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CBD5-0465-4F67-8A7E-A211C8D46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058F36-FB27-4004-AA0E-959131183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A442B29-F69D-4549-B41E-8C39864E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A05341E-969B-4589-9E49-61DADA42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0A5EAF-66BF-4BBF-BCA2-854286E4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12F20C-F4C2-4336-8410-A2D7EB40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48B61B0-1757-4F7D-BDE7-91B33E63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CB785F-4FE0-4E25-9909-922193F0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AA2B0BB-9813-49D0-8BC1-9E2B3BDB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58AC035-995A-4D00-B98F-A0039176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F93DDCC-0A72-4D24-BB49-9D8A8EBB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FE6E-8E25-484D-B9D6-35BF9337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A3ECB8-FE76-4C38-A49A-A28AE5F0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ACDCFEA-0883-418C-A1B0-EB8C54D57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EA2B968-92EE-444F-8C0A-DABDE9298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BB9FEB-CF4B-4752-AA3E-4D8E01081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68D915-F530-42C6-85C9-478BEEEF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F18672-2A70-4B1B-BD2D-5678B394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13DB13-4E31-40A1-87F7-444578C4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83B002-6760-4518-9594-71E72CDB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38E1AD-6EE7-492E-BEBA-84E61806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8DC6ED-1B92-4BF2-81A8-01BC904E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7E03-4EB8-41A1-8699-47608C8E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AE14CA-B7BE-4F32-96D6-9BEEE9A2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04469D-D610-45EC-AAAD-3BCFAA11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402034-7009-4D89-A64E-67CEFCED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5EA271-07C8-45D5-BFC0-8FA31515D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B5CBFB-E1BF-40E7-BB64-7EEFD08C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D7C2173-6A4B-4279-8054-2374315D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6772F8B-9DC1-4D35-AB88-4ACC2BB9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AF26B66-C40C-4168-8299-63C87B3D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489AFCB-5FF0-43C0-BD89-BE7ABFC8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3AB94FC-E877-4497-AE58-972E36F2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465A-2561-4945-8DE9-C7CD7346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63A3A89-8434-4043-B6B5-E5CCEB39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2DA7858-EA2C-4608-B91B-1F018DE7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34DD074-F904-4DC4-95F9-A68175DC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C4E42E3-6292-4DA7-9B9A-8B5C8C4E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9C9D50C-D825-44C3-9084-6E2CF464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4030812-3471-4C9C-9E3B-400251CB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F93555E-CAD3-4E6D-9393-78E3A9DE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5559FA2-D0D6-45DF-9E54-9CE236E8F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180597C-68EC-40FB-9848-762129A9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57E2E35-ED48-462B-8568-695839B4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E55B-244F-4474-A2E5-07CBBDC7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00B76EE-83A0-4205-86A5-0C356F89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9BEFBC3-A903-414F-AD69-156ECCAA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740CAA9-34EB-4159-8669-98DCD2E8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01E8EB3-A269-49F8-979C-B3FC98C1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6083108-6AFD-4284-BB32-C4B128A9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297393C-E54B-41B2-A2FE-03B8CF52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AC376A7-A27B-46A3-87F4-90247836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C5D0241-E0F9-47FC-AFAD-89824746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631C029-B769-4B13-B266-AB96C105B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36E13C7-880C-4AEA-B016-5EEBF3F7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E396-F74C-403D-8519-625183B1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EE9CD46-7419-4FB8-BB43-51E15438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5FA8CB3-7D6E-4538-992A-A1BA779B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BDDAF8E-B923-4035-87A8-A1C93CAD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2719B0A-47FC-4963-85A3-E6D46085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87E1B41-CC2D-4815-9EF4-3C26C535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6B6A0C3-276F-44D3-8153-EF159735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8D7B833-468A-4FEC-8E23-B1BC6D83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3B453C1-5D51-43A5-AF6C-F764C398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63DF369-3BC1-4B55-94CD-F0CA858F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5DED981-6DB1-4C52-B291-413667E79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69BE-9A3D-4F55-9C2F-D3BA5FAC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6895B50-E935-4678-BB82-B25238CB5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3226AD3-7B53-4F5D-9A90-3A3C78962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2B601F8-4580-46D8-A754-E10B6261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CC190F5-1CE7-47F6-A18A-EE1BE428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04F6A19-C9FE-47C7-88A9-F96F0B31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9AC7F0F-CFD7-4531-97D6-F3E1DAEC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CDD20BE-EA03-4406-8FDD-EFAF5BDB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CBBBF28-993C-42D4-87F9-44E899A2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1BB8915-E371-4C98-8DCA-2E121479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F6AFAD2-B433-47A8-97F4-80BAC2ED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78D5-BC00-463A-98F1-65BA1835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BF410F8-02A7-49E6-897B-66E85239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0A649A9-19D0-4237-8965-4B6EC03B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F34B1CB-20CF-4AB5-ABDA-4ACCB5D46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0E4148A-FE00-4F88-B55D-C700AB0A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1FB6320-325B-41D6-86B5-D390C761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C4DCA23-B59F-4ED2-9887-29683FF7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9CF0077-D540-47B6-8285-E54B16F8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87D7F69-C9D3-471E-B85D-4144AC76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1E71681-9A30-405A-8B9D-EA98458E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C52E16B-00D0-453B-8EEC-8CE7B275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61F2-53C3-4FD5-852F-D4CA40FE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76A4-B104-4502-BC48-E6790106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3FF9F0B-9547-4F75-8037-59B3DF30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8C275EC-2913-40E8-AB09-3C6BA40A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C1B7948-F12C-4B71-80AE-8CC1920E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8BEE178-D792-4B02-9D48-8D926FBA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C70FFCC-F11A-4D11-8F3A-E2FA69BEF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5FBA4D7-5255-4C0B-8FA0-9B006566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D147E3F-1123-4735-806D-2D81814F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58934E6-F162-4A7C-AF91-41923ED2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2C6F100-CD07-4F11-BBD7-2F28D6B4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6018426-502D-4CF6-B73D-BD43F4D6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BC8C-48DC-4963-8025-75B44523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BD18A1A-AAC6-4511-9323-E0E19B4A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550A8AB-8808-4853-AE02-B2F8F50B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61AE8DC-68FB-46C3-8D9E-B82C83C8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B4CB4D9-CD1D-463F-A8A4-864B7103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4B70EA9-B293-4544-ADF2-8EC94D52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E9E0977-9812-43C6-88AB-AE2229B6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34E9018-B21E-412D-8966-881604ED1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363F30C-1223-4BD3-AFEE-0565B27C6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ABEE492-9D97-4B01-9D1C-C948C5CA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2DB966D-3973-49AE-AB7A-8765ADBB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A0A5-2BE7-40D8-A532-0E03DCDE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578403F-DDCD-497A-BC61-73D569FB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91BE096-2501-4807-95AE-D241DB62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9ACBFF7-CED8-4C5D-AE11-0C274003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609645C-1B0C-4316-AA6A-D13D3D3F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59A36FB-0E7E-4475-A3F3-5F8A8DD3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BB320F1-A1E0-45EC-A43F-2BDAB117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D54C850-FC36-4604-8514-D43B40BA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7FEE445-62CF-4964-A137-C9AE13A11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C31C894-4A4C-4F55-BCE8-E2AD4873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A844EA1-8741-42B4-84FF-897850EE9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C418-7EAA-4CF4-8578-FF3CD5EA5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A2DBFAF-F58C-430B-A448-C876BBC0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BF0D9EC-6B99-46CD-A4FC-AC14B6AB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D660628-4A0F-44EA-A803-491D3C94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31C80F1-2EE4-4DA0-93AD-9AF37E4D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80CEEDC-B78E-4937-8825-ADB98ED7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773189E-CDAE-4AB6-B6EB-EF5AD44F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FEC5294-3794-464B-9F44-80BC1569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7252895-68E7-4F16-93C6-AACD0694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425C4C8-06F1-4357-873F-F690DE8B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C3A5790-194D-4E63-A2DA-EC52041E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E074-F4D8-4646-9665-48E1A1A2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6444971-4A1C-4CF5-8658-8389E8DDA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D1E40-F211-469E-A456-DAEA0A1D5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96004-076E-49A6-AD10-B9305F9A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06469-E6AC-46F9-A283-9BFEC265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5E0F2-3401-4614-B172-2CE9FC86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E7AFE-3215-46C8-AC71-A1ECA291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0A37-6824-42EC-AE6F-E99AA4CF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61DFB-C650-461F-8625-55488902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9E1DE-80DC-477B-A060-D88549AB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5A4AF-41D8-488C-8FC9-CF5E4AD2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A7A21-5B14-45CD-9F39-6F7DC7C8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64C0E-4F3B-494C-9DCA-746975B8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8FE2F-0C45-4A63-A722-23D41DAC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D965B-C7D9-442D-9B60-7A19C449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F48BC-6C5B-4F6B-9871-E2A131171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D81AA-4BA1-4F15-BE33-CEF9AB9A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B97E7-469A-4B27-BB56-3EF5E974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D55D-63EA-43F1-89EB-FB2F308C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AD88B-EF77-4254-9FC2-13239A46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F501B-BBC0-4608-AD84-12331526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1FE26-CA5B-43A0-9FA9-A2978F3D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2F765-2E97-4582-BBEE-78A7A413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2A799-2DFD-43E9-A71F-5E1478C2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27A52-E54D-425A-B02C-370F3F20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9CA0A-6404-4178-A33B-DD917AFF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A9D29-0E45-4047-99B1-79B0F947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31062-7D5C-4B42-A6AE-DB29990D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E1522-FDF4-465E-8478-0000237BC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4A7D-F29C-4CA5-B327-2667202B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05D19-571C-49C4-AA5A-0FD6B148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1489B-DEF7-4F01-B2C2-2EDBE26B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6AABF-B653-440D-9B31-89A452AE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83B44-6BBF-43C4-98D2-8F9ED195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64695-BE0F-422C-97C4-EC2981AF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97167-7054-41CD-A905-3C836E20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19EA6-055B-44FC-A1FD-865870E7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6781E-193F-4A82-A49D-D9A4AE0C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B1096-DBD5-48CB-B35B-A95D97ED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D865F-218A-4A49-91A5-9606EC4C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436F-1934-4D24-8CF0-016A01C6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8147F-84D7-469D-9EF7-9EF087478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FA3CE-AD5D-40A7-89CA-BFE2C9A1B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A63B9-0C13-473F-A9BF-C65652A4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D4C03-5347-4B4B-B19F-9247BF2F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16F54-73DC-4340-83CE-FD6BDFCB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AAF6E-8619-491E-BC90-B7F6C261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C48B4-3789-40BC-8B89-7CD47F87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E4411-F555-4AF6-A71F-B02824EF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D7836-18E5-49EC-942E-6442C25A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D9DCF-FCC5-4B1B-B16D-65C5FF34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A9FC-1B73-460A-9981-51A30359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66E66-6F20-4631-9BE4-ACB51A92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6E0FA-F90C-4FE5-A83A-32893A37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A2100-171F-4D75-BC09-6D711F71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8E07F8-C709-4F7C-8528-993C60A2415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44EE1F-4679-4A40-9E1B-D9286FB7F38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1D391E-B4EB-41DC-96F0-D5676D5375B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30190F-0BEE-443C-A921-2A5354DE29E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D8A98D-45AA-4BE3-8C8F-20B45FFCE55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6144C6-7061-4F6C-A363-BD78E554A76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493C82-8280-4E81-9EC8-8823E43E9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E21D-7F18-41FF-9742-58D52D03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C5236F-1C76-4C61-BDB1-E31331F6DBB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43B6BF-6DC2-4CA9-8A00-5E659D9F103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5F6D7D-C069-410C-82A1-C9858733726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3547BF-5375-4613-9336-2B2289AEE86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68F36E-2B6F-4C7C-946F-0843E15B92E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530FB4-F81E-480F-91EC-0334F40D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3D21C9-23BA-47FF-B09D-D87A3771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130E77-B49A-4CAA-83B2-7E7D4FB4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3EA472-AA6F-4AD4-87E4-6EA7A35F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AEE218-6B7A-42BD-94B9-C55911D7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24C7-50CB-45CA-83E1-40A116DC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B3B4E4-7D39-4C14-98EF-34300206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54769F-2F35-4CB4-8BD2-5F08A60C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C88F7E-9FF1-49A4-AF2F-A76CD54F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5EC5E3-ACE1-410C-9C1F-0B997151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BA5880-D856-4853-ABF2-DDE0A7AF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79B471-AE2D-42A1-9424-DD9441124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777B88-431B-4AA0-8777-3221C435D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78D9D6-ED1B-44B5-B07D-1CF76CC3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9118FC-33ED-4720-9F5E-E4D5A1D3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1BAE9E-7E34-4AF1-BCCC-E96F888E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90909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C93AD2-193D-4903-AD5D-D14E55C3C6A3}" type="datetime">
              <a:rPr b="1" lang="en-US" sz="1100" spc="-1" strike="noStrike">
                <a:solidFill>
                  <a:srgbClr val="909090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8A5544-E6FD-4CBC-BDC1-1F8C9B650E1A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6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90909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64B980-7DAD-4E08-8FEE-AAF68AC183DB}" type="datetime">
              <a:rPr b="1" lang="en-US" sz="1100" spc="-1" strike="noStrike">
                <a:solidFill>
                  <a:srgbClr val="909090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7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8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952D73-F1D3-4518-88FB-E0F0D053399A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9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90909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19D9E3-4400-4B86-9D13-CD484EC47815}" type="datetime">
              <a:rPr b="1" lang="en-US" sz="1100" spc="-1" strike="noStrike">
                <a:solidFill>
                  <a:srgbClr val="909090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0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1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6228DD-8A2A-4BEE-8E61-DBE44FE59F41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2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90909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5F0DBD-F611-40CD-81AD-CFBACE1B8D07}" type="datetime">
              <a:rPr b="1" lang="en-US" sz="1100" spc="-1" strike="noStrike">
                <a:solidFill>
                  <a:srgbClr val="909090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3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4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83E9C3-A071-420A-9E7B-06CB8CEC29D5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5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90909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78CB32-50A9-4F02-AAE9-F4001EBF99A8}" type="datetime">
              <a:rPr b="1" lang="en-US" sz="1100" spc="-1" strike="noStrike">
                <a:solidFill>
                  <a:srgbClr val="909090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6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7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ED14EE-629A-4EE3-B3F8-3C843A3F73FA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6"/>
          <p:cNvSpPr/>
          <p:nvPr/>
        </p:nvSpPr>
        <p:spPr>
          <a:xfrm>
            <a:off x="8148600" y="268200"/>
            <a:ext cx="719280" cy="5670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38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90909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FA2AEF-FC5E-43A1-8F57-4D2A6AD9F63A}" type="datetime">
              <a:rPr b="1" lang="en-US" sz="1100" spc="-1" strike="noStrike">
                <a:solidFill>
                  <a:srgbClr val="909090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39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40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E3B6CD-6DC6-4A3B-A73F-E4574572B915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6"/>
          <p:cNvSpPr/>
          <p:nvPr/>
        </p:nvSpPr>
        <p:spPr>
          <a:xfrm>
            <a:off x="8148600" y="268200"/>
            <a:ext cx="719280" cy="5670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1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90909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032E05-9B3E-40E1-8FAF-2B8B00428758}" type="datetime">
              <a:rPr b="1" lang="en-US" sz="1100" spc="-1" strike="noStrike">
                <a:solidFill>
                  <a:srgbClr val="909090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2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3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2BEAED-9536-445A-BA6D-9F248CFA0B3E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6"/>
          <p:cNvSpPr/>
          <p:nvPr/>
        </p:nvSpPr>
        <p:spPr>
          <a:xfrm>
            <a:off x="4746600" y="268200"/>
            <a:ext cx="4114800" cy="5670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4"/>
          </p:nvPr>
        </p:nvSpPr>
        <p:spPr>
          <a:xfrm>
            <a:off x="162000" y="612468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90909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6624A3-0287-4897-AE93-0CADE0BFB12B}" type="datetime">
              <a:rPr b="1" lang="en-US" sz="1100" spc="-1" strike="noStrike">
                <a:solidFill>
                  <a:srgbClr val="909090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5"/>
          </p:nvPr>
        </p:nvSpPr>
        <p:spPr>
          <a:xfrm>
            <a:off x="174240" y="6356520"/>
            <a:ext cx="386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6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323067-4E27-4BB3-B323-ABEF2C92A236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6"/>
          <p:cNvSpPr/>
          <p:nvPr/>
        </p:nvSpPr>
        <p:spPr>
          <a:xfrm>
            <a:off x="7216920" y="268200"/>
            <a:ext cx="1639800" cy="36385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7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90909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B21B9B-2DA0-483A-8D3A-5020CA50C889}" type="datetime">
              <a:rPr b="1" lang="en-US" sz="1100" spc="-1" strike="noStrike">
                <a:solidFill>
                  <a:srgbClr val="909090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8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49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BCBF27-960B-4AC5-9CB1-F2D6EFCED950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6"/>
          <p:cNvSpPr/>
          <p:nvPr/>
        </p:nvSpPr>
        <p:spPr>
          <a:xfrm>
            <a:off x="8136000" y="268200"/>
            <a:ext cx="720720" cy="36385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dt" idx="50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90909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30E157-899E-4E45-95EA-B722532388B4}" type="datetime">
              <a:rPr b="1" lang="en-US" sz="1100" spc="-1" strike="noStrike">
                <a:solidFill>
                  <a:srgbClr val="909090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ftr" idx="51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sldNum" idx="52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3B34DC-FC37-4975-BBF4-E085950E063E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6"/>
          <p:cNvSpPr/>
          <p:nvPr/>
        </p:nvSpPr>
        <p:spPr>
          <a:xfrm>
            <a:off x="7211880" y="268200"/>
            <a:ext cx="1646280" cy="1646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dt" idx="53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90909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E46CD9-4388-4EC8-B632-2DC61758BC1C}" type="datetime">
              <a:rPr b="1" lang="en-US" sz="1100" spc="-1" strike="noStrike">
                <a:solidFill>
                  <a:srgbClr val="909090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ftr" idx="54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sldNum" idx="55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2EFD83-BD23-4356-B57E-34A0C7605503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3187800" y="268200"/>
            <a:ext cx="5668920" cy="39006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68200" y="268200"/>
            <a:ext cx="184320" cy="38862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276360" y="390600"/>
            <a:ext cx="550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759A06-A64F-4FBF-BC2E-35A2AC967C7F}" type="datetime"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07/29/26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219480" y="6356520"/>
            <a:ext cx="4735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25624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90909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1743D6-2BCF-41E5-B6D9-A6CCB724E8C3}" type="slidenum">
              <a:rPr b="1" lang="en-US" sz="1100" spc="-1" strike="noStrike">
                <a:solidFill>
                  <a:srgbClr val="90909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6"/>
          <p:cNvSpPr/>
          <p:nvPr/>
        </p:nvSpPr>
        <p:spPr>
          <a:xfrm>
            <a:off x="8148600" y="268200"/>
            <a:ext cx="719280" cy="5670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6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90909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A1E0AD-7635-4C37-B67F-A5EC37E7C8BF}" type="datetime">
              <a:rPr b="1" lang="en-US" sz="1100" spc="-1" strike="noStrike">
                <a:solidFill>
                  <a:srgbClr val="909090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7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58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AE16BA-EC02-4CDD-88FA-84AE2D569DE9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7211880" y="268200"/>
            <a:ext cx="1646280" cy="1646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7211520" y="6356520"/>
            <a:ext cx="175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90909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0584F6-0309-4629-B634-EF3A6CCFD7CE}" type="datetime">
              <a:rPr b="1" lang="en-US" sz="1100" spc="-1" strike="noStrike">
                <a:solidFill>
                  <a:srgbClr val="909090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D8F14C-6FFD-439F-A537-0E96CFC673F2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3187800" y="268200"/>
            <a:ext cx="5668920" cy="25606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268200" y="268200"/>
            <a:ext cx="184320" cy="38862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276360" y="390600"/>
            <a:ext cx="549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62B129-B074-43A2-8A36-F208A0170A2E}" type="datetime"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07/29/26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213000" y="6356520"/>
            <a:ext cx="4735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826560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90909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1B45EE-83DB-4ADE-9997-0061A0E2E2D6}" type="slidenum">
              <a:rPr b="1" lang="en-US" sz="1100" spc="-1" strike="noStrike">
                <a:solidFill>
                  <a:srgbClr val="909090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270000" y="268200"/>
            <a:ext cx="1646280" cy="1646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7211520" y="6356520"/>
            <a:ext cx="175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90909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D908C2-92D3-4B7A-A5CA-07493F1B2457}" type="datetime">
              <a:rPr b="1" lang="en-US" sz="1100" spc="-1" strike="noStrike">
                <a:solidFill>
                  <a:srgbClr val="909090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2178000" y="6356520"/>
            <a:ext cx="4927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331920" y="360360"/>
            <a:ext cx="50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E56740-5551-45F3-AB13-970570887025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7759800" y="268200"/>
            <a:ext cx="1098360" cy="635004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5562720" y="6356520"/>
            <a:ext cx="162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90909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3BF8C3-10E3-45F3-8E99-3BF4AF63FC69}" type="datetime">
              <a:rPr b="1" lang="en-US" sz="1100" spc="-1" strike="noStrike">
                <a:solidFill>
                  <a:srgbClr val="909090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174240" y="635652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790BB5-A7E4-4AA3-A12D-FD919F8C5CAA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270000" y="4773600"/>
            <a:ext cx="2971800" cy="184464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9"/>
          </p:nvPr>
        </p:nvSpPr>
        <p:spPr>
          <a:xfrm>
            <a:off x="351000" y="6105600"/>
            <a:ext cx="50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14AB0B-05E0-4984-96D9-22EDE674DE6C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0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90909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345880-84E6-441E-93AA-F02B25128A8D}" type="datetime">
              <a:rPr b="1" lang="en-US" sz="1100" spc="-1" strike="noStrike">
                <a:solidFill>
                  <a:srgbClr val="909090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1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2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B52107-01F9-43A6-AFD0-39CB9318C396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16516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3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90909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98E637-EA0D-47AC-BAA8-358550682AAD}" type="datetime">
              <a:rPr b="1" lang="en-US" sz="1100" spc="-1" strike="noStrike">
                <a:solidFill>
                  <a:srgbClr val="909090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4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5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54DA0F-E8C5-4FAD-9D40-4DC7F9F2C271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Bellringer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464646"/>
                </a:solidFill>
                <a:latin typeface="Century Gothic"/>
              </a:rPr>
              <a:t>What is the function of a nucleus?</a:t>
            </a:r>
            <a:endParaRPr b="0" lang="en-US" sz="53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Organisms with Prokaryotic Cells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 u="sng">
                <a:solidFill>
                  <a:srgbClr val="464646"/>
                </a:solidFill>
                <a:uFillTx/>
                <a:latin typeface="Century Gothic"/>
              </a:rPr>
              <a:t>Bacteria are prokaryotic cells. Bacteria are single-celled organisms.</a:t>
            </a:r>
            <a:endParaRPr b="0" lang="en-US" sz="5600" spc="-1" strike="noStrike">
              <a:solidFill>
                <a:srgbClr val="464646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3140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Let’s Practice…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456840" y="1616040"/>
            <a:ext cx="714204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64646"/>
                </a:solidFill>
                <a:latin typeface="Century Gothic"/>
              </a:rPr>
              <a:t>What kind of organisms have prokaryotic cells?</a:t>
            </a:r>
            <a:endParaRPr b="0" lang="en-US" sz="5400" spc="-1" strike="noStrike">
              <a:solidFill>
                <a:srgbClr val="464646"/>
              </a:solidFill>
              <a:latin typeface="Century Gothic"/>
            </a:endParaRPr>
          </a:p>
          <a:p>
            <a:pPr marL="457200" indent="-457200">
              <a:spcBef>
                <a:spcPts val="1800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64646"/>
                </a:solidFill>
                <a:latin typeface="Century Gothic"/>
              </a:rPr>
              <a:t>How many cells do bacteria have?</a:t>
            </a:r>
            <a:endParaRPr b="0" lang="en-US" sz="5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Let’s Practice..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Century Gothic"/>
              </a:rPr>
              <a:t>What kind of cells would a lion have? </a:t>
            </a:r>
            <a:endParaRPr b="0" lang="en-US" sz="43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868" name="Picture 3" descr=""/>
          <p:cNvPicPr/>
          <p:nvPr/>
        </p:nvPicPr>
        <p:blipFill>
          <a:blip r:embed="rId1"/>
          <a:stretch/>
        </p:blipFill>
        <p:spPr>
          <a:xfrm>
            <a:off x="5689440" y="4419720"/>
            <a:ext cx="34290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GP1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457200" y="2209320"/>
            <a:ext cx="771984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entury Gothic"/>
              </a:rPr>
              <a:t>Do trees have eukaryotic or prokaryotic cells?</a:t>
            </a:r>
            <a:endParaRPr b="0" lang="en-US" sz="50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GP2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457200" y="2209320"/>
            <a:ext cx="771984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entury Gothic"/>
              </a:rPr>
              <a:t>Do mushrooms have eukaryotic or prokaryotic cells?</a:t>
            </a:r>
            <a:endParaRPr b="0" lang="en-US" sz="50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GP3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457200" y="2209320"/>
            <a:ext cx="771984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entury Gothic"/>
              </a:rPr>
              <a:t>Do E. Coli bacteria have eukaryotic or prokaryotic cells?</a:t>
            </a:r>
            <a:endParaRPr b="0" lang="en-US" sz="50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GP4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457200" y="2209320"/>
            <a:ext cx="771984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entury Gothic"/>
              </a:rPr>
              <a:t>Do lizards have eukaryotic or prokaryotic cells?</a:t>
            </a:r>
            <a:endParaRPr b="0" lang="en-US" sz="50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GP5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56840" y="1815840"/>
            <a:ext cx="8047080" cy="46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64646"/>
                </a:solidFill>
                <a:latin typeface="Century Gothic"/>
              </a:rPr>
              <a:t>Salmonella is a very simple organism that can be found in raw eggs. It is a unicellular organism and has no nucleus.  How should salmonella be classified (prokaryotic or eukaryotic)?</a:t>
            </a:r>
            <a:endParaRPr b="0" lang="en-US" sz="46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GP6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456840" y="1601640"/>
            <a:ext cx="804708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Century Gothic"/>
              </a:rPr>
              <a:t>A parrot is a complex organism that lives in the tropical rainforest. It is a multi-cellular organism whose cells perform many processes.  How should a parrot’s cells be classified (prokaryotic or eukaryotic)?</a:t>
            </a:r>
            <a:endParaRPr b="0" lang="en-US" sz="43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GP7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456840" y="1677960"/>
            <a:ext cx="804708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entury Gothic"/>
              </a:rPr>
              <a:t>Which of the cells below could belong to a frog?</a:t>
            </a:r>
            <a:endParaRPr b="0" lang="en-US" sz="50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883" name="Picture 3" descr=""/>
          <p:cNvPicPr/>
          <p:nvPr/>
        </p:nvPicPr>
        <p:blipFill>
          <a:blip r:embed="rId1"/>
          <a:stretch/>
        </p:blipFill>
        <p:spPr>
          <a:xfrm>
            <a:off x="1066680" y="4021200"/>
            <a:ext cx="3186360" cy="1940040"/>
          </a:xfrm>
          <a:prstGeom prst="rect">
            <a:avLst/>
          </a:prstGeom>
          <a:ln w="0">
            <a:noFill/>
          </a:ln>
        </p:spPr>
      </p:pic>
      <p:pic>
        <p:nvPicPr>
          <p:cNvPr id="884" name="Picture 4" descr=""/>
          <p:cNvPicPr/>
          <p:nvPr/>
        </p:nvPicPr>
        <p:blipFill>
          <a:blip r:embed="rId2"/>
          <a:stretch/>
        </p:blipFill>
        <p:spPr>
          <a:xfrm>
            <a:off x="5629320" y="3676680"/>
            <a:ext cx="3085920" cy="2641680"/>
          </a:xfrm>
          <a:prstGeom prst="rect">
            <a:avLst/>
          </a:prstGeom>
          <a:ln w="0">
            <a:noFill/>
          </a:ln>
        </p:spPr>
      </p:pic>
      <p:sp>
        <p:nvSpPr>
          <p:cNvPr id="885" name="TextBox 5"/>
          <p:cNvSpPr/>
          <p:nvPr/>
        </p:nvSpPr>
        <p:spPr>
          <a:xfrm>
            <a:off x="765000" y="37908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6"/>
          <p:cNvSpPr/>
          <p:nvPr/>
        </p:nvSpPr>
        <p:spPr>
          <a:xfrm>
            <a:off x="5316480" y="3651120"/>
            <a:ext cx="6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Agenda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457200" y="1469520"/>
            <a:ext cx="8686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-361080">
              <a:spcBef>
                <a:spcPts val="1800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Century Gothic"/>
              </a:rPr>
              <a:t>Anticipatory Set</a:t>
            </a:r>
            <a:endParaRPr b="0" lang="en-US" sz="4000" spc="-1" strike="noStrike">
              <a:solidFill>
                <a:srgbClr val="464646"/>
              </a:solidFill>
              <a:latin typeface="Century Gothic"/>
            </a:endParaRPr>
          </a:p>
          <a:p>
            <a:pPr marL="361080" indent="-361080">
              <a:spcBef>
                <a:spcPts val="1800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Century Gothic"/>
              </a:rPr>
              <a:t>Review</a:t>
            </a:r>
            <a:endParaRPr b="0" lang="en-US" sz="4000" spc="-1" strike="noStrike">
              <a:solidFill>
                <a:srgbClr val="464646"/>
              </a:solidFill>
              <a:latin typeface="Century Gothic"/>
            </a:endParaRPr>
          </a:p>
          <a:p>
            <a:pPr marL="361080" indent="-361080">
              <a:spcBef>
                <a:spcPts val="1800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Century Gothic"/>
              </a:rPr>
              <a:t>Input (organisms and cell types)</a:t>
            </a:r>
            <a:endParaRPr b="0" lang="en-US" sz="4000" spc="-1" strike="noStrike">
              <a:solidFill>
                <a:srgbClr val="464646"/>
              </a:solidFill>
              <a:latin typeface="Century Gothic"/>
            </a:endParaRPr>
          </a:p>
          <a:p>
            <a:pPr marL="361080" indent="-361080">
              <a:spcBef>
                <a:spcPts val="1800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Century Gothic"/>
              </a:rPr>
              <a:t>Guided Practice</a:t>
            </a:r>
            <a:endParaRPr b="0" lang="en-US" sz="4000" spc="-1" strike="noStrike">
              <a:solidFill>
                <a:srgbClr val="464646"/>
              </a:solidFill>
              <a:latin typeface="Century Gothic"/>
            </a:endParaRPr>
          </a:p>
          <a:p>
            <a:pPr marL="361080" indent="-361080">
              <a:spcBef>
                <a:spcPts val="1800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Century Gothic"/>
              </a:rPr>
              <a:t>Independent Practice</a:t>
            </a:r>
            <a:endParaRPr b="0" lang="en-US" sz="4000" spc="-1" strike="noStrike">
              <a:solidFill>
                <a:srgbClr val="464646"/>
              </a:solidFill>
              <a:latin typeface="Century Gothic"/>
            </a:endParaRPr>
          </a:p>
          <a:p>
            <a:pPr marL="361080" indent="-361080">
              <a:spcBef>
                <a:spcPts val="1800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Century Gothic"/>
              </a:rPr>
              <a:t>Closing</a:t>
            </a:r>
            <a:endParaRPr b="0" lang="en-US" sz="40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GP8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456840" y="1224000"/>
            <a:ext cx="804708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entury Gothic"/>
              </a:rPr>
              <a:t>Which of the cells below could belong to salmonella bacteria?</a:t>
            </a:r>
            <a:endParaRPr b="0" lang="en-US" sz="50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889" name="Picture 3" descr=""/>
          <p:cNvPicPr/>
          <p:nvPr/>
        </p:nvPicPr>
        <p:blipFill>
          <a:blip r:embed="rId1"/>
          <a:stretch/>
        </p:blipFill>
        <p:spPr>
          <a:xfrm>
            <a:off x="1066680" y="4021200"/>
            <a:ext cx="3186360" cy="1940040"/>
          </a:xfrm>
          <a:prstGeom prst="rect">
            <a:avLst/>
          </a:prstGeom>
          <a:ln w="0">
            <a:noFill/>
          </a:ln>
        </p:spPr>
      </p:pic>
      <p:pic>
        <p:nvPicPr>
          <p:cNvPr id="890" name="Picture 4" descr=""/>
          <p:cNvPicPr/>
          <p:nvPr/>
        </p:nvPicPr>
        <p:blipFill>
          <a:blip r:embed="rId2"/>
          <a:stretch/>
        </p:blipFill>
        <p:spPr>
          <a:xfrm>
            <a:off x="5629320" y="3676680"/>
            <a:ext cx="3085920" cy="2641680"/>
          </a:xfrm>
          <a:prstGeom prst="rect">
            <a:avLst/>
          </a:prstGeom>
          <a:ln w="0">
            <a:noFill/>
          </a:ln>
        </p:spPr>
      </p:pic>
      <p:sp>
        <p:nvSpPr>
          <p:cNvPr id="891" name="TextBox 5"/>
          <p:cNvSpPr/>
          <p:nvPr/>
        </p:nvSpPr>
        <p:spPr>
          <a:xfrm>
            <a:off x="765000" y="37908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6"/>
          <p:cNvSpPr/>
          <p:nvPr/>
        </p:nvSpPr>
        <p:spPr>
          <a:xfrm>
            <a:off x="5316480" y="3651120"/>
            <a:ext cx="6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6840" y="2785680"/>
            <a:ext cx="8163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2da2bf"/>
                </a:solidFill>
                <a:uFillTx/>
                <a:latin typeface="Century Gothic"/>
              </a:rPr>
              <a:t>3.3 Independent Practice</a:t>
            </a:r>
            <a:endParaRPr b="0" lang="en-US" sz="5000" spc="-1" strike="noStrike">
              <a:solidFill>
                <a:srgbClr val="2da2b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Closing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Review 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31760" indent="-914400">
              <a:lnSpc>
                <a:spcPct val="80000"/>
              </a:lnSpc>
              <a:spcBef>
                <a:spcPts val="1800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c5698"/>
                </a:solidFill>
                <a:latin typeface="Century Gothic"/>
              </a:rPr>
              <a:t>What is a function?</a:t>
            </a:r>
            <a:endParaRPr b="0" lang="en-US" sz="4600" spc="-1" strike="noStrike">
              <a:solidFill>
                <a:srgbClr val="464646"/>
              </a:solidFill>
              <a:latin typeface="Century Gothic"/>
            </a:endParaRPr>
          </a:p>
          <a:p>
            <a:pPr marL="1031760" indent="-914400">
              <a:lnSpc>
                <a:spcPct val="80000"/>
              </a:lnSpc>
              <a:spcBef>
                <a:spcPts val="1800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c5698"/>
                </a:solidFill>
                <a:latin typeface="Century Gothic"/>
              </a:rPr>
              <a:t>What is the function of the nucleus?</a:t>
            </a:r>
            <a:endParaRPr b="0" lang="en-US" sz="4600" spc="-1" strike="noStrike">
              <a:solidFill>
                <a:srgbClr val="464646"/>
              </a:solidFill>
              <a:latin typeface="Century Gothic"/>
            </a:endParaRPr>
          </a:p>
          <a:p>
            <a:pPr marL="1031760" indent="-914400">
              <a:lnSpc>
                <a:spcPct val="80000"/>
              </a:lnSpc>
              <a:spcBef>
                <a:spcPts val="1800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c5698"/>
                </a:solidFill>
                <a:latin typeface="Century Gothic"/>
              </a:rPr>
              <a:t>What is DNA?</a:t>
            </a:r>
            <a:endParaRPr b="0" lang="en-US" sz="46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Review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456840" y="1486080"/>
            <a:ext cx="779796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30640" indent="-432000">
              <a:spcBef>
                <a:spcPts val="1800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c5698"/>
                </a:solidFill>
                <a:latin typeface="Century Gothic"/>
              </a:rPr>
              <a:t>What is the difference between the location of DNA in prokaryotes and in eukaryotes?</a:t>
            </a:r>
            <a:endParaRPr b="0" lang="en-US" sz="3800" spc="-1" strike="noStrike">
              <a:solidFill>
                <a:srgbClr val="464646"/>
              </a:solidFill>
              <a:latin typeface="Century Gothic"/>
            </a:endParaRPr>
          </a:p>
          <a:p>
            <a:pPr marL="530640" indent="-432000">
              <a:spcBef>
                <a:spcPts val="1800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c5698"/>
                </a:solidFill>
                <a:latin typeface="Century Gothic"/>
              </a:rPr>
              <a:t>Does a nucleus have a nuclear envelope?</a:t>
            </a:r>
            <a:endParaRPr b="0" lang="en-US" sz="3800" spc="-1" strike="noStrike">
              <a:solidFill>
                <a:srgbClr val="464646"/>
              </a:solidFill>
              <a:latin typeface="Century Gothic"/>
            </a:endParaRPr>
          </a:p>
          <a:p>
            <a:pPr marL="530640" indent="-432000">
              <a:spcBef>
                <a:spcPts val="1800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c5698"/>
                </a:solidFill>
                <a:latin typeface="Century Gothic"/>
              </a:rPr>
              <a:t>Does a nucleoid have a nuclear envelope?</a:t>
            </a:r>
            <a:endParaRPr b="0" lang="en-US" sz="38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Review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1c5698"/>
                </a:solidFill>
                <a:latin typeface="Century Gothic"/>
              </a:rPr>
              <a:t>Why do we need DNA?</a:t>
            </a:r>
            <a:endParaRPr b="0" lang="en-US" sz="57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Review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Century Gothic"/>
              </a:rPr>
              <a:t>What does it mean if things are similar?</a:t>
            </a:r>
            <a:endParaRPr b="0" lang="en-US" sz="48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Review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entury Gothic"/>
              </a:rPr>
              <a:t>How are animals, plants and fungi similar?</a:t>
            </a:r>
            <a:endParaRPr b="0" lang="en-US" sz="50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Review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entury Gothic"/>
              </a:rPr>
              <a:t>How are all bacteria similar?</a:t>
            </a:r>
            <a:endParaRPr b="0" lang="en-US" sz="50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Objective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Century Gothic"/>
              </a:rPr>
              <a:t>After today you will be able to classify organisms by their cell type.</a:t>
            </a:r>
            <a:endParaRPr b="0" lang="en-US" sz="4300" spc="-1" strike="noStrike">
              <a:solidFill>
                <a:srgbClr val="464646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Big Goal Connection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464646"/>
                </a:solidFill>
                <a:latin typeface="Century Gothic"/>
              </a:rPr>
              <a:t>80% Mastery – Quiz tomorrow</a:t>
            </a:r>
            <a:endParaRPr b="0" lang="en-US" sz="4700" spc="-1" strike="noStrike">
              <a:solidFill>
                <a:srgbClr val="464646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464646"/>
                </a:solidFill>
                <a:latin typeface="Century Gothic"/>
              </a:rPr>
              <a:t>Big Idea – Patterns, similarity, and diversity</a:t>
            </a:r>
            <a:endParaRPr b="0" lang="en-US" sz="47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64680" y="4406760"/>
            <a:ext cx="6946920" cy="171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2da2bf"/>
                </a:solidFill>
                <a:uFillTx/>
                <a:latin typeface="Century Gothic"/>
              </a:rPr>
              <a:t>3.3 Organisms and Cell Types</a:t>
            </a:r>
            <a:endParaRPr b="0" lang="en-US" sz="5400" spc="-1" strike="noStrike">
              <a:solidFill>
                <a:srgbClr val="2da2b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Eukaryotes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 u="sng">
                <a:solidFill>
                  <a:srgbClr val="464646"/>
                </a:solidFill>
                <a:uFillTx/>
                <a:latin typeface="Century Gothic"/>
              </a:rPr>
              <a:t>Organisms with eukaryotic cells are called eukaryotes.</a:t>
            </a:r>
            <a:endParaRPr b="0" lang="en-US" sz="5500" spc="-1" strike="noStrike">
              <a:solidFill>
                <a:srgbClr val="464646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850" name="Picture 3" descr=""/>
          <p:cNvPicPr/>
          <p:nvPr/>
        </p:nvPicPr>
        <p:blipFill>
          <a:blip r:embed="rId1"/>
          <a:stretch/>
        </p:blipFill>
        <p:spPr>
          <a:xfrm>
            <a:off x="5457960" y="4192560"/>
            <a:ext cx="3492360" cy="232416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4" descr=""/>
          <p:cNvPicPr/>
          <p:nvPr/>
        </p:nvPicPr>
        <p:blipFill>
          <a:blip r:embed="rId2"/>
          <a:stretch/>
        </p:blipFill>
        <p:spPr>
          <a:xfrm>
            <a:off x="4572000" y="330120"/>
            <a:ext cx="22860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23480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Organisms </a:t>
            </a:r>
            <a:br>
              <a:rPr sz="3600"/>
            </a:b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with </a:t>
            </a:r>
            <a:br>
              <a:rPr sz="3600"/>
            </a:b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Eukaryotic Cells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457200" y="2941200"/>
            <a:ext cx="79120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80000"/>
              </a:lnSpc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 u="sng">
                <a:solidFill>
                  <a:srgbClr val="464646"/>
                </a:solidFill>
                <a:uFillTx/>
                <a:latin typeface="Century Gothic"/>
              </a:rPr>
              <a:t>Animals, plants, and fungi have eukaryotic cells. They can be single-celled or multi-cellular.</a:t>
            </a:r>
            <a:endParaRPr b="0" lang="en-US" sz="5600" spc="-1" strike="noStrike">
              <a:solidFill>
                <a:srgbClr val="464646"/>
              </a:solidFill>
              <a:latin typeface="Century Gothic"/>
            </a:endParaRPr>
          </a:p>
          <a:p>
            <a:pPr marL="219240" indent="-219240">
              <a:lnSpc>
                <a:spcPct val="80000"/>
              </a:lnSpc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854" name="Picture 3" descr=""/>
          <p:cNvPicPr/>
          <p:nvPr/>
        </p:nvPicPr>
        <p:blipFill>
          <a:blip r:embed="rId1"/>
          <a:srcRect l="0" t="0" r="0" b="22911"/>
          <a:stretch/>
        </p:blipFill>
        <p:spPr>
          <a:xfrm>
            <a:off x="5937120" y="0"/>
            <a:ext cx="3206880" cy="296712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4" descr=""/>
          <p:cNvPicPr/>
          <p:nvPr/>
        </p:nvPicPr>
        <p:blipFill>
          <a:blip r:embed="rId2"/>
          <a:stretch/>
        </p:blipFill>
        <p:spPr>
          <a:xfrm>
            <a:off x="7940520" y="0"/>
            <a:ext cx="1203480" cy="110160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5" descr=""/>
          <p:cNvPicPr/>
          <p:nvPr/>
        </p:nvPicPr>
        <p:blipFill>
          <a:blip r:embed="rId3"/>
          <a:stretch/>
        </p:blipFill>
        <p:spPr>
          <a:xfrm>
            <a:off x="3666960" y="0"/>
            <a:ext cx="227016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Let’s Practice…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6840" y="1904760"/>
            <a:ext cx="75661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64646"/>
                </a:solidFill>
                <a:latin typeface="Century Gothic"/>
              </a:rPr>
              <a:t>What kind of organisms are eukaryotes?</a:t>
            </a:r>
            <a:endParaRPr b="0" lang="en-US" sz="4200" spc="-1" strike="noStrike">
              <a:solidFill>
                <a:srgbClr val="464646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64646"/>
                </a:solidFill>
                <a:latin typeface="Century Gothic"/>
              </a:rPr>
              <a:t>How many cells does a single-celled organism have?</a:t>
            </a:r>
            <a:endParaRPr b="0" lang="en-US" sz="4200" spc="-1" strike="noStrike">
              <a:solidFill>
                <a:srgbClr val="464646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64646"/>
                </a:solidFill>
                <a:latin typeface="Century Gothic"/>
              </a:rPr>
              <a:t>What is a multi-cellular organism?</a:t>
            </a:r>
            <a:endParaRPr b="0" lang="en-US" sz="4200" spc="-1" strike="noStrike">
              <a:solidFill>
                <a:srgbClr val="464646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2da2b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Prokaryotes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 u="sng">
                <a:solidFill>
                  <a:srgbClr val="464646"/>
                </a:solidFill>
                <a:uFillTx/>
                <a:latin typeface="Century Gothic"/>
              </a:rPr>
              <a:t>Prokaryotic cells are called prokaryotes.</a:t>
            </a:r>
            <a:endParaRPr b="0" lang="en-US" sz="5100" spc="-1" strike="noStrike">
              <a:solidFill>
                <a:srgbClr val="464646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2da2b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861" name="Picture 3" descr=""/>
          <p:cNvPicPr/>
          <p:nvPr/>
        </p:nvPicPr>
        <p:blipFill>
          <a:blip r:embed="rId1"/>
          <a:stretch/>
        </p:blipFill>
        <p:spPr>
          <a:xfrm>
            <a:off x="5764320" y="4280040"/>
            <a:ext cx="314964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3:07:06Z</dcterms:created>
  <dc:creator>Caroline Roth</dc:creator>
  <dc:description/>
  <dc:language>en-US</dc:language>
  <cp:lastModifiedBy>Caroline Roth</cp:lastModifiedBy>
  <dcterms:modified xsi:type="dcterms:W3CDTF">2010-10-14T19:11:24Z</dcterms:modified>
  <cp:revision>8</cp:revision>
  <dc:subject/>
  <dc:title>Bellringer</dc:title>
</cp:coreProperties>
</file>